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34.png" ContentType="image/png"/>
  <Override PartName="/ppt/media/image9.png" ContentType="image/png"/>
  <Override PartName="/ppt/media/image42.wmf" ContentType="image/x-wmf"/>
  <Override PartName="/ppt/media/image30.png" ContentType="image/png"/>
  <Override PartName="/ppt/media/image32.png" ContentType="image/png"/>
  <Override PartName="/ppt/media/image33.png" ContentType="image/png"/>
  <Override PartName="/ppt/media/image39.wmf" ContentType="image/x-wmf"/>
  <Override PartName="/ppt/media/image41.png" ContentType="image/png"/>
  <Override PartName="/ppt/media/image37.wmf" ContentType="image/x-wmf"/>
  <Override PartName="/ppt/media/image7.wmf" ContentType="image/x-wmf"/>
  <Override PartName="/ppt/media/image12.png" ContentType="image/png"/>
  <Override PartName="/ppt/media/image16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5B3CA-90ED-41E2-9ADF-9E6FE65279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F7CAB-C822-4BB8-86F6-5BD15AF07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244-8F47-4A10-A0C2-558B33D2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B6C-9A5B-40FA-A486-CED383F3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6F7-AC1F-4BA6-B270-BBC694F2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FFD-F3A9-4C1D-BEDA-A813F3D6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ECB-FB9F-4EE0-ADC1-F74D0524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FB4-5E97-4A8A-B7DF-A45FD48B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FCA-0556-4948-A9F2-FE21930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289-CA13-47F9-BBCA-9AA1B4F4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986-D375-4251-8643-39FAD0EA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DF9-F714-41D6-AB60-725BEE6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D96-A5A0-4DDD-B7DE-169C5ADA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D64-9C6B-431C-B105-88A105A4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3B118-9753-4988-A704-4C4522DA38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D0D76-90D8-4CFF-9B3B-4874FBB47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2040" y="5516640"/>
            <a:ext cx="840096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8 -19 декабря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г. Санкт-Петербур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73120" y="2727360"/>
            <a:ext cx="7954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a3d37"/>
                </a:solidFill>
                <a:latin typeface="Arial Narrow"/>
                <a:ea typeface="宋体"/>
              </a:rPr>
              <a:t>ОСНОВНЫЕ ПОЛОЖ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a3d37"/>
                </a:solidFill>
                <a:latin typeface="Arial Narrow"/>
                <a:ea typeface="宋体"/>
              </a:rPr>
              <a:t>НОВЫХ МЕЖГОСУДАРСТВЕННЫХ СТАНДАР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a3d37"/>
                </a:solidFill>
                <a:latin typeface="Arial Narrow"/>
                <a:ea typeface="宋体"/>
              </a:rPr>
              <a:t>ПО ПРОЕКТИРОВАНИЮ ТОННЕЛЕЙ</a:t>
            </a:r>
            <a:r>
              <a:rPr b="0" lang="ru-RU" sz="2400" spc="-1" strike="noStrike">
                <a:solidFill>
                  <a:srgbClr val="4a3d37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13A29-8731-49DE-9779-5086B7233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0298C-555A-4823-8587-3B3883421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ХЕМА УСЛОВНОГО ОБОЗНАЧЕНИЯ ТОНН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65594-5E2C-409D-8BDF-DC0931843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70"/>
          <p:cNvSpPr/>
          <p:nvPr/>
        </p:nvSpPr>
        <p:spPr>
          <a:xfrm>
            <a:off x="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269"/>
          <p:cNvGraphicFramePr/>
          <p:nvPr/>
        </p:nvGraphicFramePr>
        <p:xfrm>
          <a:off x="1424160" y="1577880"/>
          <a:ext cx="637200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577880"/>
                    <a:ext cx="63720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3" descr="Логотип РОСДОРНИИ"/>
          <p:cNvPicPr/>
          <p:nvPr/>
        </p:nvPicPr>
        <p:blipFill>
          <a:blip r:embed="rId3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A6164-038C-44B4-BC90-ED3E31C06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УСЛОВНОГО ОБОЗНАЧЕНИЯ ТОНН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ннель АТ-Г– С8 – Г(204) – 2–2/1 – Д(425)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-11,50/Г-11,50/Г-8,50 – МБ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-149(км 24+200 - км 24+6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-Г – автодорожный тоннель горного тип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8 – расположенный в районе сейсмичностью 8 балл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(204) – глубокого заложения (глубина заложения 204 м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-2/1 – двухъярусный, с двумя пролетами на верхнем ярусе и одним на нижне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(425) – длинный (длиной 425 м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-11,50/Г-11,50/Г-8,50 – с габаритами Г-11,50 для каждого пролета на верхнем ярусе, Г-8,50 – для пролета на нижнем ярус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 – с обделкой из монолитного бето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-149 (км 24+200 – км 24+625) – находящийся на автомобильной дороге общего пользования федерального значения А-149 (Адлер – Красная Поляна) на участке км 24+200 - км 24+62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B3BFF-7B41-4202-91E2-6EACB044E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87AB4-E81D-4EBC-9D33-567521D0B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ЕБОВАНИЯ К ТИПО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ТИВНО-ТЕХНОЛОГИЧЕСКИМ РЕШ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а поперечного се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угов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чат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липтическая (овальн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ямоуго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, влияющие на выбор конструкции обдел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льеф и сейсмичность района строи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убина зал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женерно-геологические усло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жидаемые нагру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роизводства строительно-монтажных раб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BE2D7-D14B-4914-8074-01D80CAE5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CD6ED-EF86-49A5-8184-2B7C0136E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 ПРИ КОТЛОВАН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Е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E70D4-BF10-41F7-AFF4-5F83C4E52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0" descr=""/>
          <p:cNvPicPr/>
          <p:nvPr/>
        </p:nvPicPr>
        <p:blipFill>
          <a:blip r:embed="rId1"/>
          <a:stretch/>
        </p:blipFill>
        <p:spPr>
          <a:xfrm>
            <a:off x="452520" y="1724040"/>
            <a:ext cx="4124160" cy="2390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"/>
          <p:cNvPicPr/>
          <p:nvPr/>
        </p:nvPicPr>
        <p:blipFill>
          <a:blip r:embed="rId2"/>
          <a:stretch/>
        </p:blipFill>
        <p:spPr>
          <a:xfrm>
            <a:off x="4510080" y="1762200"/>
            <a:ext cx="4084560" cy="239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2" descr=""/>
          <p:cNvPicPr/>
          <p:nvPr/>
        </p:nvPicPr>
        <p:blipFill>
          <a:blip r:embed="rId3"/>
          <a:stretch/>
        </p:blipFill>
        <p:spPr>
          <a:xfrm>
            <a:off x="1506600" y="4152960"/>
            <a:ext cx="6016680" cy="212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Логотип РОСДОРНИИ"/>
          <p:cNvPicPr/>
          <p:nvPr/>
        </p:nvPicPr>
        <p:blipFill>
          <a:blip r:embed="rId4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6765A-15BC-4CBB-8E82-9A7FC0D73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 ПРИ КОТЛОВАН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Е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0F105-A5D9-4208-9732-A072E77C2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1565280" y="1758960"/>
            <a:ext cx="5675400" cy="425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31966-C2D9-4DC1-9577-2EF991463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 ПРИ КОТЛОВАН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Е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117CE-11CA-4941-BF9B-78ACE9126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452520" y="1930320"/>
            <a:ext cx="8385120" cy="381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6EA0A-6B03-48CE-AE3E-8062B9037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 ПРИ ТРАНШЕЙ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Е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BE3A7-50BE-43C3-B2D7-894739E12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1676520" y="1835280"/>
            <a:ext cx="5405400" cy="433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2CE87-B7C9-4B12-B0BB-E3085F400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 ПРИ ТРАНШЕЙ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Е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81C1A-9548-4DF0-B9A3-362662415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1231920" y="1677960"/>
            <a:ext cx="6865920" cy="459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C4052-908F-4ECB-935E-2AFE7FFBF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ГОРНЫМ СПОСО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65A7A-A2E6-4770-A10F-3619A7FBA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312840" y="2273400"/>
            <a:ext cx="4124160" cy="3238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4944960" y="2346480"/>
            <a:ext cx="4013280" cy="3165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Логотип РОСДОРНИИ"/>
          <p:cNvPicPr/>
          <p:nvPr/>
        </p:nvPicPr>
        <p:blipFill>
          <a:blip r:embed="rId3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0E54D-C26A-4CCF-A342-CA9FA6076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ГОРНЫМ СПОСО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410F0-F560-4ECB-9433-8C75732C0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293760" y="2081160"/>
            <a:ext cx="4124160" cy="343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"/>
          <p:cNvPicPr/>
          <p:nvPr/>
        </p:nvPicPr>
        <p:blipFill>
          <a:blip r:embed="rId2"/>
          <a:stretch/>
        </p:blipFill>
        <p:spPr>
          <a:xfrm>
            <a:off x="4664160" y="1944720"/>
            <a:ext cx="4336920" cy="3575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Логотип РОСДОРНИИ"/>
          <p:cNvPicPr/>
          <p:nvPr/>
        </p:nvPicPr>
        <p:blipFill>
          <a:blip r:embed="rId3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2160" y="1009440"/>
            <a:ext cx="823428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ДОРОГИ АВТОМОБИЛЬНЫЕ ОБЩЕГО ПОЛЬЗОВАНИЯ. КЛАССИФИКАЦИЯ ТОННЕЛ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Г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№ ФДА 47/204 от 01.11.2013 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ДОРОГИ АВТОМОБИЛЬНЫЕ ОБЩЕГО ПОЛЬЗОВАНИЯ. ИЗЫСКАНИЯ ТОННЕЛЕЙ. ОБЩИЕ ТРЕБ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Г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ДА 47/77 от 20.02.2014 г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ДОРОГИ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АВТОМОБИЛЬНЫЕ ОБЩЕГО ПОЛЬЗОВАНИЯ. ПРОЕКТИРОВАНИЕ ТОННЕЛЕЙ. ОБЩИЕ ТРЕБ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Г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ДА 47/76 от 20.02.2014 г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РАЗРАБОТАННЫЕ Г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457200" y="244008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18B23-CA06-45AE-8288-01C71D1D4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37126-A563-4045-93E8-DF563C3FAE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333A3-4225-4CA0-9153-CB5636BFA2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5E98A-28ED-4EE3-BB77-D04C3307B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5C073-9C10-42FD-A614-9884B4ABF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ГОРНЫМ СПОСО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419B8-A9AB-41A3-9C74-1E998D534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2" descr=""/>
          <p:cNvPicPr/>
          <p:nvPr/>
        </p:nvPicPr>
        <p:blipFill>
          <a:blip r:embed="rId1"/>
          <a:stretch/>
        </p:blipFill>
        <p:spPr>
          <a:xfrm>
            <a:off x="149400" y="1685880"/>
            <a:ext cx="5059080" cy="4210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2"/>
          <a:stretch/>
        </p:blipFill>
        <p:spPr>
          <a:xfrm>
            <a:off x="5415120" y="2617920"/>
            <a:ext cx="3562200" cy="3240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Логотип РОСДОРНИИ"/>
          <p:cNvPicPr/>
          <p:nvPr/>
        </p:nvPicPr>
        <p:blipFill>
          <a:blip r:embed="rId3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EFBB6-0A1C-4C67-B24B-919F743444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ГОРНЫМ СПОСО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EA76A-49CC-4D8F-904A-30CC6E8AC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4" descr=""/>
          <p:cNvPicPr/>
          <p:nvPr/>
        </p:nvPicPr>
        <p:blipFill>
          <a:blip r:embed="rId1"/>
          <a:stretch/>
        </p:blipFill>
        <p:spPr>
          <a:xfrm>
            <a:off x="2995560" y="1892160"/>
            <a:ext cx="3368880" cy="4152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BC335-9A42-4E1B-BDF9-486F6521E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ГОРНЫМ СПОСО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97E69-7326-4EE4-BA54-9F8947D44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1554120" y="2308320"/>
            <a:ext cx="6060960" cy="3016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530FD-C1DA-4600-93E7-236DB1FA6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СООРУЖАЕМ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НЫМ СПОСО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D5B36-80F2-4691-A11B-47D24273D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101520" y="1433520"/>
            <a:ext cx="3156120" cy="255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"/>
          <p:cNvPicPr/>
          <p:nvPr/>
        </p:nvPicPr>
        <p:blipFill>
          <a:blip r:embed="rId2"/>
          <a:stretch/>
        </p:blipFill>
        <p:spPr>
          <a:xfrm>
            <a:off x="5880240" y="1447920"/>
            <a:ext cx="3011400" cy="2458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"/>
          <p:cNvPicPr/>
          <p:nvPr/>
        </p:nvPicPr>
        <p:blipFill>
          <a:blip r:embed="rId3"/>
          <a:stretch/>
        </p:blipFill>
        <p:spPr>
          <a:xfrm>
            <a:off x="2727360" y="3448080"/>
            <a:ext cx="3051000" cy="2763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Логотип РОСДОРНИИ"/>
          <p:cNvPicPr/>
          <p:nvPr/>
        </p:nvPicPr>
        <p:blipFill>
          <a:blip r:embed="rId4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3F6A2-25E8-493F-BCBE-F82C9435A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ГОРНЫМ СПОСО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C86A1-BA4A-4C15-AE0E-F7690A9E8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12" descr=""/>
          <p:cNvPicPr/>
          <p:nvPr/>
        </p:nvPicPr>
        <p:blipFill>
          <a:blip r:embed="rId1"/>
          <a:stretch/>
        </p:blipFill>
        <p:spPr>
          <a:xfrm>
            <a:off x="1144440" y="1851120"/>
            <a:ext cx="6888240" cy="4073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04CB0-71D4-447C-A9DE-284962AA5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ЩИТОВЫМ СПОСО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560B9-E754-41C2-B9AB-36ACB75B4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1"/>
          <a:stretch/>
        </p:blipFill>
        <p:spPr>
          <a:xfrm>
            <a:off x="457200" y="1922400"/>
            <a:ext cx="4221000" cy="4030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4957920" y="1922400"/>
            <a:ext cx="3944880" cy="3849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Логотип РОСДОРНИИ"/>
          <p:cNvPicPr/>
          <p:nvPr/>
        </p:nvPicPr>
        <p:blipFill>
          <a:blip r:embed="rId3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F4798-D772-4343-B26C-2B3FB8206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ЩИТОВЫМ СПОСО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4A382-FDD8-45E9-875F-A1FAA6F66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1"/>
          <a:stretch/>
        </p:blipFill>
        <p:spPr>
          <a:xfrm>
            <a:off x="297000" y="1828800"/>
            <a:ext cx="4257360" cy="396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2"/>
          <a:stretch/>
        </p:blipFill>
        <p:spPr>
          <a:xfrm>
            <a:off x="5175360" y="1828800"/>
            <a:ext cx="3666960" cy="4124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Логотип РОСДОРНИИ"/>
          <p:cNvPicPr/>
          <p:nvPr/>
        </p:nvPicPr>
        <p:blipFill>
          <a:blip r:embed="rId3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21E90-E1BD-4CF6-AC3B-2ACC77E72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СПЕЦИАЛЬНЫМИ СПОСОБ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3946C-42EF-4FA7-914B-57B99F24B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149400" y="1776240"/>
            <a:ext cx="3408120" cy="3335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"/>
          <p:cNvPicPr/>
          <p:nvPr/>
        </p:nvPicPr>
        <p:blipFill>
          <a:blip r:embed="rId2"/>
          <a:stretch/>
        </p:blipFill>
        <p:spPr>
          <a:xfrm>
            <a:off x="3857760" y="2984400"/>
            <a:ext cx="5148000" cy="3189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Логотип РОСДОРНИИ"/>
          <p:cNvPicPr/>
          <p:nvPr/>
        </p:nvPicPr>
        <p:blipFill>
          <a:blip r:embed="rId3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5E5DF-A87B-4E0B-938F-F3192CB22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ЦИИ ОБДЕЛО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АЕМЫХ СПЕЦИАЛЬНЫМИ СПОСОБ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AC167-EEC7-413D-A18F-290505207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2" descr=""/>
          <p:cNvPicPr/>
          <p:nvPr/>
        </p:nvPicPr>
        <p:blipFill>
          <a:blip r:embed="rId1"/>
          <a:stretch/>
        </p:blipFill>
        <p:spPr>
          <a:xfrm>
            <a:off x="452520" y="2136600"/>
            <a:ext cx="8402400" cy="3191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2E283-F87B-4B88-9FE1-151BD998F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ИЗЫСКАН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ЛАСТЬ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Т «Дороги автомобильные общего пользования. Изыскания тоннелей. Общие требования» устанавливает общие требования к изысканиям автодорожных тоннелей, включая виды и объемы изысканий, порядок и последовательность проведения изысканий, методы проведения различных видов изысканий, состав, содержание, правила выполнения, оформления и применения документации по изыскани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D390C-4D09-454A-8646-E03C4964A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ЛАСТЬ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Т «Дороги автомобильные общего пользования. Классификация тоннелей» устанавливает признаки и порядок классификации тоннелей на автомобильных дорогах общего пользования, типовые конструктивно-технологические решения, требования к строительным материалам и изделиям, устройствам и системам обеспечения безопасной эксплуатации тонн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тоящий стандарт не распространяется на пешеходные тоннели, путепроводы тоннельного типа, а также сооружения, при проектировании и строительстве которых используются принципиально новые конструктивные решения и технологии, которые не прошли проверку в практике строительства и эксплуат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ификация предназначается для обозначения тоннелей при их проектировании, строительстве, реконструкции, капитальном ремонте и эксплуа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4E654-E579-42EB-9B1D-9AD26409C9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C96C5-AC21-4995-B6F4-32A4613F9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A42E7-0F93-4F97-B52E-9B250F4C4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ИЗЫСКАН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ЙСТВУЮЩИЕ НОРМАТИВНЫЕ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 122.13330.2012 «СНиП 32-04-97 Тоннели железнодорожные и автодорожны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 47.13330.2012 «СНиП 11-02-96 Инженерные изыскания для строительства. Основные полож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П 11-02-96 Инженерные изыскания для строительств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полож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спублика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Б 1.02.01-96 Инженерные изыскания для строитель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спублика Казахс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СТ РК 1398-2005 Дороги автомобильные. Инженерные изыскания для строительства, реконструкции и капитального ремонта. Требования к оформлению отче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СТ РК 1399-2005 Дороги автомобильные и аэродромы. Инженерные изыскания для строительства, реконструкции и капитального ремонта. Требования к составу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СНиП РК 1.02-18-2004 Инженерные изыскания для строительства. Основные полож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Европейский сою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Сопоставимые документы отсутствую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11FD4-FE83-470C-9135-9FD5175BE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FBF01-46AA-464D-8723-EBFC5B471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ИЗЫСКАН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ВИДОВ ИЗЫСК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E6C80-53DD-4518-A4CB-E0E1ED8C3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0" t="0" r="-255" b="0"/>
          <a:stretch/>
        </p:blipFill>
        <p:spPr>
          <a:xfrm>
            <a:off x="357120" y="2287440"/>
            <a:ext cx="8594640" cy="2978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423F8-4541-4F0C-BB74-C77DF9C09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ИЗЫСКАН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ВИДОВ ИЗЫСК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1A6F4-6F5D-44D6-9481-36B227B8F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8" descr=""/>
          <p:cNvPicPr/>
          <p:nvPr/>
        </p:nvPicPr>
        <p:blipFill>
          <a:blip r:embed="rId1"/>
          <a:stretch/>
        </p:blipFill>
        <p:spPr>
          <a:xfrm>
            <a:off x="1243080" y="1452600"/>
            <a:ext cx="7169040" cy="4721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8D49B-97FC-4702-A886-F8F29A321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ИЗЫСКАН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ВИДОВ ИЗЫСК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B1E8B-44D7-4D1F-B016-E22185DFC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8118720" cy="4835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6EFD1-26B9-448E-A686-1CACCC4286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ИЗЫСКАН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ЕБОВАНИЯ К ПОРЯДКУ, ПОСЛЕДОВА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ЕТОДАМ ПРОВЕДЕНИЯ ИЗЫСК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ветствую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 122.13330.2012 «СНиП 32-04-97 Тоннели железнодорожные и автодорожны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 47.13330.2012 «СНиП 11-02-96 Инженерные изыскания для строительства. Основные полож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П 11-02-96 «Инженерные изыскания для строительства. Основные полож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рмонизирован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Т 32836–2014 «Дороги автомобильные общего пользования. Изыскания автомобильных дорог. Общие требования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487DC-6324-4148-9853-AFBC77142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BA0DB-2CE3-4600-977E-36B1265FC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ИЗЫСКАН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ЕБОВАНИЯ К СОСТАВУ, СОДЕРЖАНИЮ, ПРАВИЛАМ ВЫПОЛНЕНИЯ, ОФОРМЛЕНИЯ И ПРИМЕНЕНИЯ ДОКУМЕНТАЦИИ ПО ИЗЫСКА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ответствую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 122.13330.2012 «СНиП 32-04-97 Тоннели железнодорожные и автодорожны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 47.13330.2012 «СНиП 11-02-96 Инженерные изыскания для строительства. Основные полож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П 11-02-96 «Инженерные изыскания для строительства. Основные полож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 РК 1398-2005 «Дороги автомобильные. Инженерные изыскания для строительства, реконструкции и капитального ремонта. Требования к оформлению отче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рмонизирован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Т 32836–2014 «Дороги автомобильные общего пользования. Изыскания автомобильных дорог. Общие требования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E1965-7B0F-46E4-9A3C-AB9CD12D7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5AE2A-5359-47AD-BE28-8AE26AC95C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ЛАСТЬ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7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Т «Дороги автомобильные общего пользования. Проектирование тоннелей. Общие требования» устанавливает общие требования к проектированию тоннелей на автомобильных дорогах общего пользования всех категорий, включая: порядок проектирования; характеристики, габариты и параметры тоннельных и притоннельных сооружений; требования к надежности и безопасности конструкций тоннелей, системам обеспечения безопасной эксплуатации; строительным материалам и изделиям; требования к обеспечению безопасного уровня воздействия на окружающую среду на этапах строительства, реконструкции, капитального ремонта и эксплуатации; состав, содержание, комплектование, правила выполнения, оформления и применения проектной документ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70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стандарта не распространяются на пешеходные тоннели, путепроводы тоннельного типа, а также сооружения, при проектировании и строительстве которых используются принципиально новые конструктивные решения и технологии, которые не прошли проверку в практике строительства и эксплуат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FB259-9466-4C0C-A60E-45D8E2450C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567D6-6BE6-41AC-877A-0068335A5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ЙСТВУЮЩИЕ НОРМАТИВНЫЕ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Т 24451–80 Тоннели автодорожные. Габариты приближения строений и оборуд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 122.13330.2012 СНиП 32-04–97 Тоннели железнодорожные и автодорож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спублика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Б 3.03.07–98 Тоннели железнодорожные и автодорож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П 45-3.03-238–2011 Тоннели и метрополитены.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спублика Казахс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П РК 3.03-07–2003 Тоннели железнодорожные и автодорожны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Европейский сою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4/54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On minimum safety requirements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nels in the Trans-European Road Network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рабочей группы ЕЭК ООН АС.7 по автомобильным тоннел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ое соглашение о международных автомагистрал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А) ECE/TRANS/SC.1/38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B2E72-5E3B-405A-B2E2-CFD115FF4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B8C29-8DB1-4561-A373-8BDB2D71A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ТРЕБОВАНИЙ К ПРОЕКТИРОВ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8AA41-F22E-44B2-A204-86A1A0DDA8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452520" y="1522440"/>
            <a:ext cx="8229600" cy="4449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2F764-9003-4511-973F-770E82086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Ы ПРОЕКТИРОВАНИЯ ТОНН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ектной документ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проектной документ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иза проектной документ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проектной докум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ЕКТНОЙ ДОКУМЕН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публике Казах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гласно CH PK 1.02-03–2011 «Порядок разработки, согласования, утверждения и состав проектной документации на строительство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ек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чая документ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публике Белару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гласно СНБ 1.03.02–96 «Состав, порядок разработки и согласования проектной документации в строительстве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рхитектурный проек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ительный проек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гласно постановлению Правительства РФ от 16.02.2008 № 87 «О составе разделов проектной документации и требования к их содержанию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ектная документ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чая документа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6B271-C2B4-4778-91E3-BDFB65A01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30465-3494-47B4-B518-2123CFD71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ЙСТВУЮЩИЕ НОРМАТИВНЫЕ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Т 24451-80 «Тоннели автодорожные. Габариты приближения строений и оборудования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 122.13330.2012 «СНиП 32-04-97 Тоннели железнодорожные и автодорожные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спублика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Б 3.03.07-98 «Тоннели железнодорожные и автодорожные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спублика Казахс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П РК 3.03-07-2003 «Тоннели железнодорожные и автодорожные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Европейский сою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Сопоставимые документы отсутствую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932D2-50BF-4185-827E-208C4A3EB4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9C7C9-5EDA-4003-888C-AAD63BCAF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РАЗРАБОТКИ ПРОЕКТНОЙ ДОКУМЕНТ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адия – проект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разрабатываться на основании выводов и показателей предпроектной документации и подлежит утверждению в порядке, установленном законодатель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адия – рабочая документация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разрабатываться на основании проекта, и так же подлежит утвержд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ТРЕБОВАНИЯ К СОСТАВУ ИСХОДНЫХ ДАННЫХ ДЛЯ ПРОЕКТ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начала и окончания проектир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обеспечения безопасного движения плавсредств на реках и водоемах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7723A-A2CB-4F02-9108-08BF7924E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3ACD8-8A43-434F-ACC6-0BA14A238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О-ЭКСПЛУАТАЦИОННЫЕ ХАРАКТЕРИСТИ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орость, непрерывность, безопасность и комфортность движ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пускная способность, габариты и уровень загрузки движение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евая нагрузка, общая масса и габариты автомоби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лговечность и безотказ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, обеспечивающие живучес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противляемость воздействию нагрузок и природных явл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нестойк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ивучесть при повреждения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о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монтопригод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ступность для ремонта и содерж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экономическ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ономичность и планировочная целесообраз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ологичность и экологическая безопас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рхитектурная выразительн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56EE8-C186-4A7E-9715-65B415010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57164-5519-4FE7-BC55-08C4CC2F2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БАРИТЫ ТОННЕЛЕЙ ПО ШИР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5FA4E-7E26-4768-B83C-339F1855C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9" descr=""/>
          <p:cNvPicPr/>
          <p:nvPr/>
        </p:nvPicPr>
        <p:blipFill>
          <a:blip r:embed="rId1"/>
          <a:stretch/>
        </p:blipFill>
        <p:spPr>
          <a:xfrm>
            <a:off x="452520" y="1781280"/>
            <a:ext cx="8229600" cy="3705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911E6-57AF-47D5-B772-E50228705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БАРИТЫ ТОННЕЛЕЙ ПО ВЫС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BE7E5-1297-4273-B073-153097C75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rcRect l="0" t="0" r="33103" b="11196"/>
          <a:stretch/>
        </p:blipFill>
        <p:spPr>
          <a:xfrm>
            <a:off x="452520" y="2398680"/>
            <a:ext cx="8234280" cy="2127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1AB1A-F835-46D9-AF70-D0C0D5319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АРИТЫ ПРИБЛИЖЕНИЯ СТРОЕНИЙ И ОБОРУДОВАНИЯ ТОННЕЛЕЙ НА КРИВЫХ РАДИУС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 И МЕНЕ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F26FF-ED51-48E8-B8F9-CD10AC485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8" descr=""/>
          <p:cNvPicPr/>
          <p:nvPr/>
        </p:nvPicPr>
        <p:blipFill>
          <a:blip r:embed="rId1"/>
          <a:stretch/>
        </p:blipFill>
        <p:spPr>
          <a:xfrm>
            <a:off x="1665360" y="1789200"/>
            <a:ext cx="6100560" cy="2398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"/>
          <p:cNvPicPr/>
          <p:nvPr/>
        </p:nvPicPr>
        <p:blipFill>
          <a:blip r:embed="rId2"/>
          <a:srcRect l="0" t="0" r="0" b="10341"/>
          <a:stretch/>
        </p:blipFill>
        <p:spPr>
          <a:xfrm>
            <a:off x="542880" y="4511520"/>
            <a:ext cx="8077320" cy="1676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Логотип РОСДОРНИИ"/>
          <p:cNvPicPr/>
          <p:nvPr/>
        </p:nvPicPr>
        <p:blipFill>
          <a:blip r:embed="rId3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AA491-A848-4AC9-9153-D54AD4443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ПРОЕКТИРОВАНИЕ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ИЕ ТРЕБ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дежности и безопасности конструкций тоннелей, системам обеспечения безопасной эксплуатации (пожарная безопасность, вентиляция связь, электроосвещение и другие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троительным материалам и изделиям, обеспечивающим техническое единство, качество и сохраняемость свойств тоннелей в процессе эксплуат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еспечению безопасного уровня воздействия на окружающую среду на этапах строительства и эксплуа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Т СП 122.13330.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898B0-AD65-4110-A306-E4F24575E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Содержимое 2"/>
          <p:cNvSpPr/>
          <p:nvPr/>
        </p:nvSpPr>
        <p:spPr>
          <a:xfrm>
            <a:off x="457200" y="244008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14B67-B01F-4013-84AB-7872CC70D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573120" y="1006560"/>
            <a:ext cx="795492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ые стандарты обеспечивают единство требований к качеству строительства и эксплуатационным показателям автодорожных тоннелей на основе их классификационных показателей, к объему и методам проведения изысканий для обеспечения качества строительства и эксплуатационных показателей автодорожных тоннелей, к качеству строительства и эксплуатационным показателям автодорожных тоннелей, применяемым строительным материалам и изделиям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3" descr="Логотип РОСДОРНИИ"/>
          <p:cNvPicPr/>
          <p:nvPr/>
        </p:nvPicPr>
        <p:blipFill>
          <a:blip r:embed="rId1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28987-9439-4026-B904-E533B9BE4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АЗАТЕЛИ И РАЗНОВИДНОСТИ ТОНН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E94FE-0329-4285-9690-68A3288F5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5" descr=""/>
          <p:cNvPicPr/>
          <p:nvPr/>
        </p:nvPicPr>
        <p:blipFill>
          <a:blip r:embed="rId1"/>
          <a:stretch/>
        </p:blipFill>
        <p:spPr>
          <a:xfrm>
            <a:off x="1090440" y="1805040"/>
            <a:ext cx="7075800" cy="354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6069E-FFE0-4404-8C63-889759046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АЗАТЕЛИ И РАЗНОВИДНОСТИ ТОНН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F65C1-AAB8-464A-A75C-DE93B2E65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1"/>
          <a:stretch/>
        </p:blipFill>
        <p:spPr>
          <a:xfrm>
            <a:off x="1119240" y="1338120"/>
            <a:ext cx="7086600" cy="5199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37BB9-8C47-4B60-A03E-51D23CBF7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АЗАТЕЛИ И РАЗНОВИДНОСТИ ТОНН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583BE-3CC5-493F-A387-76EA94370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1139760" y="1465200"/>
            <a:ext cx="7089840" cy="478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D2AFD-EB25-4127-B9B8-B07D83DE2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ИФИКАЦИОННЫЕ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 – расположение по отношению к рельефу земной поверх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 – по сейсмичности района строитель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 – по глубине зало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а – по конструктивному исполн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ТИПОРАЗМЕРОВ ТОНН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897A7-0FCA-48EC-AB23-23709E7A8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1"/>
          <a:srcRect l="0" t="0" r="-1748" b="0"/>
          <a:stretch/>
        </p:blipFill>
        <p:spPr>
          <a:xfrm>
            <a:off x="1222200" y="3274920"/>
            <a:ext cx="6815160" cy="289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A0495-D6B8-4D0F-A22F-A88C5EFE9B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49400" y="177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Times New Roman"/>
              </a:rPr>
              <a:t>КЛАССИФИКАЦИЯ ТОНН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452520" y="1000080"/>
            <a:ext cx="82342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ОРАЗМЕРЫ ТОНН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D2281-B7A1-480A-AAAB-9B06F17E5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711360" y="1887480"/>
            <a:ext cx="8054640" cy="380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Логотип РОСДОРНИИ"/>
          <p:cNvPicPr/>
          <p:nvPr/>
        </p:nvPicPr>
        <p:blipFill>
          <a:blip r:embed="rId2"/>
          <a:stretch/>
        </p:blipFill>
        <p:spPr>
          <a:xfrm>
            <a:off x="5800680" y="87480"/>
            <a:ext cx="3343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3:39:40Z</dcterms:created>
  <dc:creator>Алексей Бунчик</dc:creator>
  <dc:description/>
  <dc:language>en-US</dc:language>
  <cp:lastModifiedBy>MIKHAIL</cp:lastModifiedBy>
  <cp:lastPrinted>2014-10-15T05:27:30Z</cp:lastPrinted>
  <dcterms:modified xsi:type="dcterms:W3CDTF">2014-12-17T09:41:08Z</dcterms:modified>
  <cp:revision>222</cp:revision>
  <dc:subject/>
  <dc:title>О тенденциях в развитии нормативной базы органических вяжущих материалов</dc:title>
</cp:coreProperties>
</file>